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6883-3750-4BDF-9A8B-102B4392A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0E68-9866-4958-9DD2-F5E0002A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C9D1-ACF9-4B19-8728-170D564B4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66AE-B26D-4699-9115-142D47751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F594-65E3-4DD0-B6FF-472D8E70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D07A-0E8C-4E3C-9204-A4AA5BBF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8E3D-6B62-4742-A401-8FC01CE5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EE65-5C49-4872-979E-D72842D1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9A45-5A25-4ACF-9D5A-AE457146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B3BB-3789-45D9-ABCA-6DFCBFB2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8229-13DF-4726-ACB3-7B26AE13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8FCE-B255-46EB-9779-469DBC6D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C03D-14C3-4799-B096-A18AA14EE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219640" y="5950080"/>
            <a:ext cx="3416400" cy="6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bright="26000"/>
          </a:blip>
          <a:stretch/>
        </p:blipFill>
        <p:spPr>
          <a:xfrm>
            <a:off x="-73080" y="-171360"/>
            <a:ext cx="9217080" cy="7521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STUDI DELS HÀBITS ALIMENTARIS DELS ADOLESCENTS DEL PLA DE L’ESTA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44720" y="595152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Times New Roman"/>
              </a:rPr>
              <a:t>Anna Oliv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ÍNDEX DE MASSA CORPORAL DELS NO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ÍNDEX DE MASSA CORPORAL DE LES NO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806436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ETA DELS NOIS I NOIES DE [12,18) AN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1155960" cy="1511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403280" y="1268280"/>
          <a:ext cx="7524720" cy="5400720"/>
        </p:xfrm>
        <a:graphic>
          <a:graphicData uri="http://schemas.openxmlformats.org/drawingml/2006/table">
            <a:tbl>
              <a:tblPr/>
              <a:tblGrid>
                <a:gridCol w="7524720"/>
              </a:tblGrid>
              <a:tr h="540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"/>
                        <a:tabLst>
                          <a:tab algn="l" pos="39625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Àpat més important: </a:t>
                      </a:r>
                      <a:r>
                        <a:rPr b="0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na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"/>
                        <a:tabLst>
                          <a:tab algn="l" pos="39625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"/>
                        <a:tabLst>
                          <a:tab algn="l" pos="39625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loc on esmorzen:</a:t>
                      </a:r>
                      <a:r>
                        <a:rPr b="0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 casa i a l’escola. Menys les noies de [16,18) anys que només ho fan a l’escola.</a:t>
                      </a:r>
                      <a:r>
                        <a:rPr b="0" lang="ca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"/>
                        <a:tabLst>
                          <a:tab algn="l" pos="39625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"/>
                        <a:tabLst>
                          <a:tab algn="l" pos="39625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morzar:</a:t>
                      </a:r>
                      <a:r>
                        <a:rPr b="0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ereals i llet o derivats, de tant en tant beuen un su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"/>
                        <a:tabLst>
                          <a:tab algn="l" pos="39625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"/>
                        <a:tabLst>
                          <a:tab algn="l" pos="39625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nar:</a:t>
                      </a:r>
                      <a:r>
                        <a:rPr b="0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rròs, pasta o patates; carn, peix o ous i per beure beuen aigua, els nois i noies de [16,18) anys beuen  un refresc de tant en ta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"/>
                        <a:tabLst>
                          <a:tab algn="l" pos="39625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"/>
                        <a:tabLst>
                          <a:tab algn="l" pos="39625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renar:</a:t>
                      </a:r>
                      <a:r>
                        <a:rPr b="0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ereals, galetes o pa i beuen un suc. Els nois i noies de [16,18) anys mengen brioixeria ocasionalmen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"/>
                        <a:tabLst>
                          <a:tab algn="l" pos="39625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"/>
                        <a:tabLst>
                          <a:tab algn="l" pos="39625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par:</a:t>
                      </a:r>
                      <a:r>
                        <a:rPr b="0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arn, peix o ous; arròs, pasta o patates com a complement i beuen aigu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"/>
                        <a:tabLst>
                          <a:tab algn="l" pos="39625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"/>
                        <a:tabLst>
                          <a:tab algn="l" pos="39625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n disposats a: </a:t>
                      </a:r>
                      <a:r>
                        <a:rPr b="0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gmentar el consum de fruites i verdures, disminuir la brioixeria i la carn i els majors de setze anys també estan disposats a reduir l’alcoho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"/>
                        <a:tabLst>
                          <a:tab algn="l" pos="39625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9625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</a:t>
                      </a:r>
                      <a:r>
                        <a:rPr b="1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ercici físic: </a:t>
                      </a:r>
                      <a:r>
                        <a:rPr b="0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s nois i noies de 12 a 16 anys en fan entre tres i quatre cops a la setmana. Els nois de [16,18) entre 5 i 6 cops i les noies de [16,18) anys com a màxim dues vegades a la setman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79280" y="2637000"/>
            <a:ext cx="1136880" cy="136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50920" y="3933720"/>
            <a:ext cx="960480" cy="1368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79280" y="5229360"/>
            <a:ext cx="120348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ONS I MALS HÀBI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9640" y="1989000"/>
          <a:ext cx="8229600" cy="4054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S HÀB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LS HÀB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5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Gairebé tots fan els 5 àpat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oritzen el dinar com a àpat més important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ngen aliments que els aportin energia, vitamines i calc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mengen fregit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n espor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an disposats a millorar la seva. alimentació per a tenir una bona dieta.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noies de [16,18) anys no esmorzen a cas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a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’hauria de menjar més fruita, verdura i hortaliss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a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s’han de menjar tants dolço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a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n de beure més líquids, preferiblement aigua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6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àcies a tots per la vostra atenci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ÍND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sos per a l’elaboració de l’estudi estadístic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Què és una bona diet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’índex de massa corpo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’enque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itxa tèc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lusion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Índex de massa corporal dels no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Índex de massa corporal de les no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eta dels nois i noies de [12,18) an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Bons i mals hà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SSOS PER A L'ELABORACIÓ DE L’ESTUDI ESTADÍS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È ÉS UNA BONA DIETA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9968" t="6526" r="13706" b="0"/>
          <a:stretch/>
        </p:blipFill>
        <p:spPr>
          <a:xfrm>
            <a:off x="1332000" y="1268280"/>
            <a:ext cx="675792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’ÍNDEX DE MASSA CORPO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 calcul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’interpret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92360" y="1557360"/>
            <a:ext cx="3024360" cy="1224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s (K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C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çad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00720" y="213372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92360" y="3573360"/>
            <a:ext cx="4608720" cy="28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C inferior a 18,5 = baix p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C entre 18,5 i 25 =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C entre 25 i 30 = sobrep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C superior a 30 = obesitat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’ENQUES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’enquesta es pregun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dat, sexe, pes i alç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Què s’ha menjat en el marge de les últimes 24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es vegades que es fa esport setmanal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 què s’estaria disposat a fer per millorar la die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joria de les preguntes són tancades, amb diverses opcions a escoll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TXA TÈC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ver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 i noies de dotze a divuit anys dels instituts de secundària del Pla de l’Estany, en total 1761 alum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669780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Times New Roman"/>
              </a:rPr>
              <a:t>Mostra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: 200 enquesta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Times New Roman"/>
              </a:rPr>
              <a:t>Tipus de mostra: 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estratificada per sexe, curs i centre esco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Times New Roman"/>
              </a:rPr>
              <a:t>Repartició de la mostra: 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66 enquestats a l’INS Josep Brugulat, 66 enquestats a l’INS Pla de l’Estany, 57 enquestats a l’INS Pere Alsius i 11 enquestats a Casa Nost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Times New Roman"/>
              </a:rPr>
              <a:t>Tècnica de recollida de la informació: 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entrevista pers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Times New Roman"/>
              </a:rPr>
              <a:t>Participació: 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9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Times New Roman"/>
              </a:rPr>
              <a:t>Error mostral: 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6,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Times New Roman"/>
              </a:rPr>
              <a:t>Nivell de confiança: 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95,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Times New Roman"/>
              </a:rPr>
              <a:t>Treball de camp: 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d’abril a juny del 201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4:36:51Z</dcterms:created>
  <dc:creator>User</dc:creator>
  <dc:description/>
  <dc:language>en-US</dc:language>
  <cp:lastModifiedBy>User</cp:lastModifiedBy>
  <dcterms:modified xsi:type="dcterms:W3CDTF">2010-10-21T17:26:22Z</dcterms:modified>
  <cp:revision>6</cp:revision>
  <dc:subject/>
  <dc:title>ESTUDI DELS HÀBITS ALIMENTARIS DELS ADOLESCENTS DEL PLA DE L’ESTANY</dc:title>
</cp:coreProperties>
</file>